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A49-2F0E-4477-BA9B-FC5404CB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1A81-BF5A-4B19-9280-973E0CC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398A-2FB9-4E04-A1C7-1AF609A9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0B3-85E9-4C02-B579-2C320A3B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EF64-70E3-423A-BD00-BF5B5CE6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CA1-D2C3-4A11-99E0-C595DFC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50C-1A7B-4D15-8BCF-C480BC9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DC6-25C3-4060-AF89-CCA498A7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8BC-054F-44DE-AC24-37CBAC49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883-4919-4F51-84ED-B7127A5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4FE-3996-4EB2-A080-19E0DF77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A38-4A70-44B3-A191-B1AD3940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89D9-ADA2-44D4-A080-4614A507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Classroom Arran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undra Jor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mpletion of assignmen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47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773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classroom arrangement of technology, and student tab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chers De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3352680" y="4952880"/>
            <a:ext cx="1524240" cy="6098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able"/>
          <p:cNvSpPr/>
          <p:nvPr/>
        </p:nvSpPr>
        <p:spPr>
          <a:xfrm>
            <a:off x="7238880" y="4267080"/>
            <a:ext cx="1200240" cy="13716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6386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e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762120" y="4952880"/>
            <a:ext cx="1523880" cy="6098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esk1"/>
          <p:cNvSpPr/>
          <p:nvPr/>
        </p:nvSpPr>
        <p:spPr>
          <a:xfrm>
            <a:off x="685800" y="3352680"/>
            <a:ext cx="1523880" cy="60984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esk1"/>
          <p:cNvSpPr/>
          <p:nvPr/>
        </p:nvSpPr>
        <p:spPr>
          <a:xfrm>
            <a:off x="6324480" y="2971800"/>
            <a:ext cx="1524240" cy="60948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5638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an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638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35812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pe Group and Teacher’s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19920" y="1600200"/>
            <a:ext cx="82044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1028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nce to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66880" y="15238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wall is here posted on the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1:42:34Z</dcterms:created>
  <dc:creator>Preferred Customer</dc:creator>
  <dc:description/>
  <dc:language>en-US</dc:language>
  <cp:lastModifiedBy>Preferred Customer</cp:lastModifiedBy>
  <dcterms:modified xsi:type="dcterms:W3CDTF">2010-03-31T02:23:07Z</dcterms:modified>
  <cp:revision>4</cp:revision>
  <dc:subject/>
  <dc:title>My Classroom Arrangement</dc:title>
</cp:coreProperties>
</file>